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D1F-4C3D-45C6-9802-1B1E4077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4C3-A382-4840-B004-4967097E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830-EA86-424C-9F72-96EB3392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F22-8234-4146-870A-88F954CE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50C-4639-4CDC-B80E-D9DD8209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57F-0E41-4A38-9773-67342FC8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78C-F77F-4615-82AC-1069D7B0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415-BFD2-46B3-8A2D-836E3A07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65E-ADDD-44AD-813D-53A42188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F31-6C7F-4CD2-B2B8-88E098ED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197-8298-48F3-AB09-7E58538D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B4D-5E79-40D9-BD5C-D9332541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75C1-EB6A-47E0-A58D-56A7DD744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ion Anomaly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Time Inst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7200" y="1219320"/>
            <a:ext cx="7688160" cy="2457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362320"/>
            <a:ext cx="1218960" cy="368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di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Time R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191120" cy="383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1153" r="0" b="20436"/>
          <a:stretch/>
        </p:blipFill>
        <p:spPr>
          <a:xfrm>
            <a:off x="5105520" y="1371600"/>
            <a:ext cx="2307960" cy="350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 flipV="1">
            <a:off x="1219320" y="2971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429000"/>
            <a:ext cx="1676520" cy="520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 Click to view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3276720"/>
            <a:ext cx="213372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391520" y="3429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3124080"/>
            <a:ext cx="152424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. Time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963" r="0" b="0"/>
          <a:stretch/>
        </p:blipFill>
        <p:spPr>
          <a:xfrm>
            <a:off x="2130480" y="990720"/>
            <a:ext cx="488160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Time R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2133720" cy="520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 Select GetCoverage for Time_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23880" y="1371240"/>
            <a:ext cx="11430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76920"/>
            <a:ext cx="228600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a. Change Time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553080" y="60199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5715000"/>
            <a:ext cx="1752480" cy="520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. Change Time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791320"/>
            <a:ext cx="24382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b. Change Time 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5029200"/>
            <a:ext cx="14479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601992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6156360" cy="3395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Normal Hi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86200"/>
            <a:ext cx="24382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a. Change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371600"/>
            <a:ext cx="685800" cy="403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143000"/>
            <a:ext cx="24382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 Select Time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4495680"/>
            <a:ext cx="24382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b. Change Percen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048120" y="4038480"/>
            <a:ext cx="2133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971800" y="464832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Difference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143000"/>
            <a:ext cx="24382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 Select EvaluateE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54040" y="1600200"/>
            <a:ext cx="6234120" cy="3278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2437920" y="1371600"/>
            <a:ext cx="228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4191120"/>
            <a:ext cx="243864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. Modify Ex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276720" y="43434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6:39:18Z</dcterms:created>
  <dc:creator>Administrator</dc:creator>
  <dc:description/>
  <dc:language>en-US</dc:language>
  <cp:lastModifiedBy>Administrator</cp:lastModifiedBy>
  <dcterms:modified xsi:type="dcterms:W3CDTF">2008-06-02T18:24:31Z</dcterms:modified>
  <cp:revision>2</cp:revision>
  <dc:subject/>
  <dc:title>Concentration Anomaly Tool</dc:title>
</cp:coreProperties>
</file>